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wmf" ContentType="image/x-wmf"/>
  <Override PartName="/ppt/media/image10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23.png" ContentType="image/png"/>
  <Override PartName="/ppt/media/image13.jpeg" ContentType="image/jpeg"/>
  <Override PartName="/ppt/media/image31.wmf" ContentType="image/x-wmf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3F5D-581D-4F25-ADA4-CEA32047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few solutions can be found as hidden slides in this presentation.  Further solutions are posted on the MP page of the CAMPPP wiki @ gains-camppp.wikispac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947-977C-483F-81DA-D8CD1740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6B1-4933-4FF4-9510-5D1BB46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265-73DB-48AD-AF6C-5AAB09DC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362-8BF7-4A92-AB20-18087952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29A-FD87-41D4-BE95-76BE6AD4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B86A-757B-467E-87A8-C23B5AFB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B0FF-A959-49AD-B597-DAF6EC3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883-2C79-4C5C-A118-AB5B769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9AF3-0852-497E-B921-AD6920BB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3E43-A38C-4F59-89CB-7C7E8B87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27A8-5163-4AE7-9601-C6BAED2F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58-B594-4314-A266-F0814A32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CACB-A7D8-4342-A4B4-0F92ABD8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3CF3-54C5-45D3-AB81-C25A33F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7BC-0189-4E08-8822-3D777E5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492F-B076-48B5-87C1-08678E38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30B-37A9-476B-81A2-ABA6BC00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D184-1F3F-4AAE-9CD9-98F8D8EE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BEB6-93FE-4A81-848D-94FA518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76EE5-895B-4D7B-8DB5-1DC7A7D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0ECF-3956-4E0C-B1E8-33FBF68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D399-5D68-4625-91C0-BFC3E4D8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6E0-B95B-4203-8A63-C7F2B40C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9CBBD-84CF-49BE-B7E8-1C3BA43B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8C072-99C7-4C55-9401-63368BF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0243-BF76-407D-905D-CE62B86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291A-389D-48DC-B3AA-D46742B7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113D-BD6E-435D-BEE2-AA4699E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5088-F3C0-42E0-AC3C-5A6C4FA1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04A2-7DE7-4F4A-882E-122DB5CC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5133B-365A-4ED8-8835-B66AFD08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C6DBD-1002-4FED-9023-51AE1E28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2084-90AD-4D93-8CE7-F49E9F4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832-87A4-4DA1-ABBC-066A9C4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C830-E3F4-4313-A7C1-F52CBDD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0F41-4890-4746-B126-93B886A7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300C-E544-4027-8840-39FA5A0B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8AFD-9950-4D03-94B3-2D63A9DF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027A-96F6-4EAB-874F-02F97D3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EF26-936A-48DC-B617-EB3EBA65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CDC2-2D67-4663-B9AD-2D8261A1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47948-6273-4656-84C5-124D5906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0F176-9761-48E5-B7C5-779E67F1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0EB-530F-433F-8001-6BE8571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179-1E6C-4F2B-85EA-0753EC4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8E5-03A5-4E73-AB87-E81DB78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F93-1BE5-4A13-8817-1F1AC35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8C4-B925-4F68-AB92-CF40659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BF3C-0BB7-4054-A4B2-1017B3E8698E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B11-702D-44D0-B6B3-E3A1365D2079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FEE7-BFB4-43ED-A80B-20AAD5CA63DC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DF0-9229-4F3C-842B-9258AC6CBD4E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G:/../../azzopaan/Desktop/Senior%20Math%20Revision/Grade%2012%20Training/PowerPoints/Deck%20Problem%20Day%20One.wp2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2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uesday Aug 19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7:00 – 8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256360" y="3546360"/>
            <a:ext cx="2519280" cy="2437920"/>
            <a:chOff x="5256360" y="3546360"/>
            <a:chExt cx="2519280" cy="2437920"/>
          </a:xfrm>
        </p:grpSpPr>
        <p:grpSp>
          <p:nvGrpSpPr>
            <p:cNvPr id="211" name=""/>
            <p:cNvGrpSpPr/>
            <p:nvPr/>
          </p:nvGrpSpPr>
          <p:grpSpPr>
            <a:xfrm>
              <a:off x="5442120" y="3732120"/>
              <a:ext cx="2160720" cy="2089080"/>
              <a:chOff x="5442120" y="3732120"/>
              <a:chExt cx="2160720" cy="2089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2120" y="3732120"/>
                <a:ext cx="2160720" cy="2089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86840" y="3982680"/>
                <a:ext cx="194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000000"/>
                    </a:solidFill>
                    <a:latin typeface="Arial"/>
                  </a:rPr>
                  <a:t>DEC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16200000">
              <a:off x="5712480" y="5574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15280" y="3935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1680" y="3546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5258520" y="4537440"/>
              <a:ext cx="3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172200" y="2590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372360" y="4689360"/>
            <a:ext cx="2447640" cy="1692360"/>
            <a:chOff x="6372360" y="4689360"/>
            <a:chExt cx="2447640" cy="1692360"/>
          </a:xfrm>
        </p:grpSpPr>
        <p:sp>
          <p:nvSpPr>
            <p:cNvPr id="221" name=""/>
            <p:cNvSpPr/>
            <p:nvPr/>
          </p:nvSpPr>
          <p:spPr>
            <a:xfrm>
              <a:off x="6372360" y="4689360"/>
              <a:ext cx="2447640" cy="1692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8560" y="5322240"/>
              <a:ext cx="157392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16000" y="2217600"/>
            <a:ext cx="8638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have been hired to build a deck attached the second floor of a cottage using 48 prefabricated 1m x 1m sections. Determine the dimensions of at least 2 decks that can be built in the configuration shown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ll different decks require the same amount of railing? Expl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87280" y="4002120"/>
            <a:ext cx="2160720" cy="1442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403280" y="6424560"/>
            <a:ext cx="30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eachside-bb.nf.ca/Accomdation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087640" y="4986360"/>
            <a:ext cx="2197080" cy="1467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4000" y="173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d469b"/>
                </a:solidFill>
                <a:latin typeface="Arial"/>
              </a:rPr>
              <a:t>Deck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60360" y="2673360"/>
          <a:ext cx="8388360" cy="39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2673360"/>
                    <a:ext cx="838836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95280" y="20239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pezoid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82060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problem in 2 or more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ing questions using the MP package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note when a MP is recognized as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202392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2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olving this problem in more than 1 way encourage and promote the use of different Mathematical Process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980080" y="3706200"/>
            <a:ext cx="2955240" cy="2403360"/>
            <a:chOff x="2980080" y="3706200"/>
            <a:chExt cx="2955240" cy="2403360"/>
          </a:xfrm>
        </p:grpSpPr>
        <p:sp>
          <p:nvSpPr>
            <p:cNvPr id="238" name=""/>
            <p:cNvSpPr/>
            <p:nvPr/>
          </p:nvSpPr>
          <p:spPr>
            <a:xfrm rot="1497000">
              <a:off x="3164400" y="4183920"/>
              <a:ext cx="258588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462120" y="4296960"/>
              <a:ext cx="515880" cy="513360"/>
              <a:chOff x="3462120" y="4296960"/>
              <a:chExt cx="515880" cy="513360"/>
            </a:xfrm>
          </p:grpSpPr>
          <p:sp>
            <p:nvSpPr>
              <p:cNvPr id="240" name=""/>
              <p:cNvSpPr/>
              <p:nvPr/>
            </p:nvSpPr>
            <p:spPr>
              <a:xfrm rot="21283800">
                <a:off x="3504600" y="4334760"/>
                <a:ext cx="435600" cy="43596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1283800">
                <a:off x="3753360" y="4727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283800">
                <a:off x="3734640" y="47142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283800">
                <a:off x="3718440" y="4731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1283800">
                <a:off x="3698280" y="471744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21283800">
                <a:off x="3661200" y="4720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21283800">
                <a:off x="3681360" y="47354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283800">
                <a:off x="3588120" y="46893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283800">
                <a:off x="3573000" y="46749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283800">
                <a:off x="3560400" y="46591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283800">
                <a:off x="3528720" y="46083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283800">
                <a:off x="3526560" y="45752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283800">
                <a:off x="3543480" y="4557600"/>
                <a:ext cx="18720" cy="4968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283800">
                <a:off x="3522600" y="45428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283800">
                <a:off x="3537000" y="449856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283800">
                <a:off x="3623760" y="438012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283800">
                <a:off x="3600360" y="439632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1283800">
                <a:off x="3588480" y="44125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283800">
                <a:off x="3579120" y="44272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283800">
                <a:off x="3568680" y="443916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283800">
                <a:off x="3556800" y="445392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1283800">
                <a:off x="3546000" y="446832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1283800">
                <a:off x="3544920" y="462096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1283800">
                <a:off x="3604680" y="470304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1283800">
                <a:off x="3630960" y="471240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1283800">
                <a:off x="3744000" y="4376160"/>
                <a:ext cx="43200" cy="169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1283800">
                <a:off x="3725280" y="43628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1283800">
                <a:off x="3708360" y="438048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1283800">
                <a:off x="3688920" y="43646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283800">
                <a:off x="3673440" y="438300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1283800">
                <a:off x="3768480" y="43902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1283800">
                <a:off x="3786840" y="4379760"/>
                <a:ext cx="19440" cy="4140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1283800">
                <a:off x="3891960" y="4509000"/>
                <a:ext cx="19080" cy="5436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1283800">
                <a:off x="3805560" y="439092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1283800">
                <a:off x="3820680" y="440100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1283800">
                <a:off x="3835800" y="4413600"/>
                <a:ext cx="18360" cy="6696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1283800">
                <a:off x="3848760" y="4431600"/>
                <a:ext cx="18720" cy="8460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1283800">
                <a:off x="3867480" y="444996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283800">
                <a:off x="3879360" y="447660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283800">
                <a:off x="3708360" y="4541040"/>
                <a:ext cx="258840" cy="23760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1283800">
                <a:off x="3708720" y="430740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283800">
                <a:off x="3494160" y="4572360"/>
                <a:ext cx="231840" cy="22788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283800">
                <a:off x="3579120" y="4560120"/>
                <a:ext cx="28224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283800">
                <a:off x="3472920" y="4329000"/>
                <a:ext cx="248400" cy="25344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283800">
                <a:off x="3591000" y="445392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283800">
                <a:off x="3746520" y="44395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83800">
                <a:off x="3818880" y="4412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1283800">
                <a:off x="3835080" y="4428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1283800">
                <a:off x="3845520" y="444132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21283800">
                <a:off x="3884760" y="451404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1283800">
                <a:off x="3867840" y="45320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283800">
                <a:off x="3886920" y="45460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283800">
                <a:off x="3870720" y="45640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283800">
                <a:off x="3882960" y="45806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283800">
                <a:off x="3873600" y="4597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283800">
                <a:off x="3866040" y="46353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283800">
                <a:off x="3853800" y="465300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283800">
                <a:off x="3844080" y="46659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283800">
                <a:off x="3831840" y="468252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1283800">
                <a:off x="3811320" y="469692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1283800">
                <a:off x="3769560" y="4710600"/>
                <a:ext cx="43200" cy="1764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283800">
                <a:off x="3855240" y="445896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283800">
                <a:off x="3867840" y="447912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283800">
                <a:off x="3801960" y="43999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283800">
                <a:off x="3781080" y="43855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283800">
                <a:off x="3762000" y="437472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729320" y="4926960"/>
              <a:ext cx="657000" cy="658440"/>
              <a:chOff x="4729320" y="4926960"/>
              <a:chExt cx="657000" cy="658440"/>
            </a:xfrm>
          </p:grpSpPr>
          <p:sp>
            <p:nvSpPr>
              <p:cNvPr id="307" name=""/>
              <p:cNvSpPr/>
              <p:nvPr/>
            </p:nvSpPr>
            <p:spPr>
              <a:xfrm flipH="1" rot="3311400">
                <a:off x="4838760" y="5035320"/>
                <a:ext cx="435960" cy="435240"/>
              </a:xfrm>
              <a:custGeom>
                <a:avLst/>
                <a:gdLst/>
                <a:ahLst/>
                <a:rect l="l" t="t" r="r" b="b"/>
                <a:pathLst>
                  <a:path w="1163" h="1171">
                    <a:moveTo>
                      <a:pt x="582" y="0"/>
                    </a:moveTo>
                    <a:lnTo>
                      <a:pt x="992" y="173"/>
                    </a:lnTo>
                    <a:lnTo>
                      <a:pt x="1163" y="585"/>
                    </a:lnTo>
                    <a:lnTo>
                      <a:pt x="1118" y="813"/>
                    </a:lnTo>
                    <a:lnTo>
                      <a:pt x="992" y="1000"/>
                    </a:lnTo>
                    <a:lnTo>
                      <a:pt x="808" y="1125"/>
                    </a:lnTo>
                    <a:lnTo>
                      <a:pt x="582" y="1171"/>
                    </a:lnTo>
                    <a:lnTo>
                      <a:pt x="171" y="1000"/>
                    </a:lnTo>
                    <a:lnTo>
                      <a:pt x="0" y="585"/>
                    </a:lnTo>
                    <a:lnTo>
                      <a:pt x="45" y="359"/>
                    </a:lnTo>
                    <a:lnTo>
                      <a:pt x="171" y="173"/>
                    </a:lnTo>
                    <a:lnTo>
                      <a:pt x="355" y="48"/>
                    </a:lnTo>
                    <a:lnTo>
                      <a:pt x="582" y="0"/>
                    </a:lnTo>
                    <a:lnTo>
                      <a:pt x="582" y="0"/>
                    </a:lnTo>
                    <a:close/>
                  </a:path>
                </a:pathLst>
              </a:custGeom>
              <a:solidFill>
                <a:srgbClr val="33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3311400">
                <a:off x="4881240" y="53323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3311400">
                <a:off x="4903560" y="533772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3311400">
                <a:off x="4899960" y="53614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rot="3311400">
                <a:off x="4924080" y="536796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3311400">
                <a:off x="4946760" y="5398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3311400">
                <a:off x="4921560" y="53928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3311400">
                <a:off x="5016960" y="543456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3311400">
                <a:off x="5037120" y="54356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1" h="48">
                    <a:moveTo>
                      <a:pt x="0" y="0"/>
                    </a:moveTo>
                    <a:lnTo>
                      <a:pt x="51" y="0"/>
                    </a:lnTo>
                    <a:lnTo>
                      <a:pt x="5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3311400">
                <a:off x="5057640" y="543600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rot="3311400">
                <a:off x="5116680" y="54273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3311400">
                <a:off x="5144040" y="54079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rot="3311400">
                <a:off x="5134320" y="537768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49" h="135">
                    <a:moveTo>
                      <a:pt x="0" y="0"/>
                    </a:moveTo>
                    <a:lnTo>
                      <a:pt x="49" y="0"/>
                    </a:lnTo>
                    <a:lnTo>
                      <a:pt x="49" y="135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3311400">
                <a:off x="5171760" y="53895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0"/>
                    </a:moveTo>
                    <a:lnTo>
                      <a:pt x="50" y="0"/>
                    </a:lnTo>
                    <a:lnTo>
                      <a:pt x="50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3311400">
                <a:off x="5185800" y="5344920"/>
                <a:ext cx="19440" cy="4356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51" y="0"/>
                    </a:lnTo>
                    <a:lnTo>
                      <a:pt x="51" y="118"/>
                    </a:lnTo>
                    <a:lnTo>
                      <a:pt x="0" y="1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3311400">
                <a:off x="5205600" y="5195880"/>
                <a:ext cx="48600" cy="16920"/>
              </a:xfrm>
              <a:custGeom>
                <a:avLst/>
                <a:gdLst/>
                <a:ahLst/>
                <a:rect l="l" t="t" r="r" b="b"/>
                <a:pathLst>
                  <a:path w="129" h="45">
                    <a:moveTo>
                      <a:pt x="0" y="0"/>
                    </a:moveTo>
                    <a:lnTo>
                      <a:pt x="129" y="0"/>
                    </a:lnTo>
                    <a:lnTo>
                      <a:pt x="12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rot="3311400">
                <a:off x="5226840" y="5233320"/>
                <a:ext cx="2700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3311400">
                <a:off x="5228280" y="525564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3311400">
                <a:off x="5223960" y="5272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3311400">
                <a:off x="5221800" y="528804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rot="3311400">
                <a:off x="5216400" y="530640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0"/>
                    </a:moveTo>
                    <a:lnTo>
                      <a:pt x="52" y="0"/>
                    </a:lnTo>
                    <a:lnTo>
                      <a:pt x="5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3311400">
                <a:off x="5208120" y="532116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50" h="83">
                    <a:moveTo>
                      <a:pt x="0" y="0"/>
                    </a:moveTo>
                    <a:lnTo>
                      <a:pt x="50" y="0"/>
                    </a:lnTo>
                    <a:lnTo>
                      <a:pt x="50" y="83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rot="3311400">
                <a:off x="5088240" y="5418720"/>
                <a:ext cx="18720" cy="3996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0"/>
                    </a:moveTo>
                    <a:lnTo>
                      <a:pt x="50" y="0"/>
                    </a:lnTo>
                    <a:lnTo>
                      <a:pt x="5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3311400">
                <a:off x="4988520" y="5427000"/>
                <a:ext cx="27360" cy="16920"/>
              </a:xfrm>
              <a:custGeom>
                <a:avLst/>
                <a:gdLst/>
                <a:ahLst/>
                <a:rect l="l" t="t" r="r" b="b"/>
                <a:pathLst>
                  <a:path w="72" h="45">
                    <a:moveTo>
                      <a:pt x="0" y="0"/>
                    </a:moveTo>
                    <a:lnTo>
                      <a:pt x="72" y="0"/>
                    </a:lnTo>
                    <a:lnTo>
                      <a:pt x="7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rot="3311400">
                <a:off x="4964040" y="5411520"/>
                <a:ext cx="28440" cy="169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0"/>
                    </a:moveTo>
                    <a:lnTo>
                      <a:pt x="76" y="0"/>
                    </a:lnTo>
                    <a:lnTo>
                      <a:pt x="7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3311400">
                <a:off x="5135760" y="5103360"/>
                <a:ext cx="43200" cy="1656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3311400">
                <a:off x="5178600" y="51184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3311400">
                <a:off x="5174640" y="514260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0" y="0"/>
                    </a:moveTo>
                    <a:lnTo>
                      <a:pt x="52" y="0"/>
                    </a:lnTo>
                    <a:lnTo>
                      <a:pt x="52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rot="3311400">
                <a:off x="5200560" y="51476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0"/>
                    </a:moveTo>
                    <a:lnTo>
                      <a:pt x="49" y="0"/>
                    </a:lnTo>
                    <a:lnTo>
                      <a:pt x="49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3311400">
                <a:off x="5196240" y="51717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rot="3311400">
                <a:off x="5128560" y="51026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0"/>
                    </a:moveTo>
                    <a:lnTo>
                      <a:pt x="52" y="0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3311400">
                <a:off x="5115960" y="5077800"/>
                <a:ext cx="19440" cy="41040"/>
              </a:xfrm>
              <a:custGeom>
                <a:avLst/>
                <a:gdLst/>
                <a:ahLst/>
                <a:rect l="l" t="t" r="r" b="b"/>
                <a:pathLst>
                  <a:path w="51" h="112">
                    <a:moveTo>
                      <a:pt x="0" y="0"/>
                    </a:moveTo>
                    <a:lnTo>
                      <a:pt x="51" y="0"/>
                    </a:lnTo>
                    <a:lnTo>
                      <a:pt x="51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3311400">
                <a:off x="4944960" y="507852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51" h="147">
                    <a:moveTo>
                      <a:pt x="0" y="0"/>
                    </a:moveTo>
                    <a:lnTo>
                      <a:pt x="51" y="0"/>
                    </a:lnTo>
                    <a:lnTo>
                      <a:pt x="51" y="147"/>
                    </a:lnTo>
                    <a:lnTo>
                      <a:pt x="0" y="1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3311400">
                <a:off x="5096880" y="50716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50" h="112">
                    <a:moveTo>
                      <a:pt x="0" y="0"/>
                    </a:moveTo>
                    <a:lnTo>
                      <a:pt x="50" y="0"/>
                    </a:lnTo>
                    <a:lnTo>
                      <a:pt x="50" y="112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rot="3311400">
                <a:off x="5078520" y="5066280"/>
                <a:ext cx="18000" cy="42120"/>
              </a:xfrm>
              <a:custGeom>
                <a:avLst/>
                <a:gdLst/>
                <a:ahLst/>
                <a:rect l="l" t="t" r="r" b="b"/>
                <a:pathLst>
                  <a:path w="50" h="114">
                    <a:moveTo>
                      <a:pt x="0" y="0"/>
                    </a:moveTo>
                    <a:lnTo>
                      <a:pt x="50" y="0"/>
                    </a:lnTo>
                    <a:lnTo>
                      <a:pt x="50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3311400">
                <a:off x="5049000" y="5058000"/>
                <a:ext cx="18360" cy="66600"/>
              </a:xfrm>
              <a:custGeom>
                <a:avLst/>
                <a:gdLst/>
                <a:ahLst/>
                <a:rect l="l" t="t" r="r" b="b"/>
                <a:pathLst>
                  <a:path w="51" h="181">
                    <a:moveTo>
                      <a:pt x="0" y="0"/>
                    </a:moveTo>
                    <a:lnTo>
                      <a:pt x="51" y="0"/>
                    </a:lnTo>
                    <a:lnTo>
                      <a:pt x="51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3311400">
                <a:off x="5020200" y="505620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49" h="228">
                    <a:moveTo>
                      <a:pt x="0" y="0"/>
                    </a:moveTo>
                    <a:lnTo>
                      <a:pt x="49" y="0"/>
                    </a:lnTo>
                    <a:lnTo>
                      <a:pt x="49" y="228"/>
                    </a:lnTo>
                    <a:lnTo>
                      <a:pt x="0" y="2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3311400">
                <a:off x="4954320" y="5035680"/>
                <a:ext cx="18360" cy="187560"/>
              </a:xfrm>
              <a:custGeom>
                <a:avLst/>
                <a:gdLst/>
                <a:ahLst/>
                <a:rect l="l" t="t" r="r" b="b"/>
                <a:pathLst>
                  <a:path w="50" h="503">
                    <a:moveTo>
                      <a:pt x="0" y="0"/>
                    </a:moveTo>
                    <a:lnTo>
                      <a:pt x="50" y="0"/>
                    </a:lnTo>
                    <a:lnTo>
                      <a:pt x="50" y="503"/>
                    </a:lnTo>
                    <a:lnTo>
                      <a:pt x="0" y="5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3311400">
                <a:off x="4947480" y="5053320"/>
                <a:ext cx="18360" cy="134640"/>
              </a:xfrm>
              <a:custGeom>
                <a:avLst/>
                <a:gdLst/>
                <a:ahLst/>
                <a:rect l="l" t="t" r="r" b="b"/>
                <a:pathLst>
                  <a:path w="49" h="363">
                    <a:moveTo>
                      <a:pt x="0" y="0"/>
                    </a:moveTo>
                    <a:lnTo>
                      <a:pt x="49" y="0"/>
                    </a:lnTo>
                    <a:lnTo>
                      <a:pt x="49" y="363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3311400">
                <a:off x="4771080" y="5115600"/>
                <a:ext cx="259200" cy="237240"/>
              </a:xfrm>
              <a:custGeom>
                <a:avLst/>
                <a:gdLst/>
                <a:ahLst/>
                <a:rect l="l" t="t" r="r" b="b"/>
                <a:pathLst>
                  <a:path w="692" h="638">
                    <a:moveTo>
                      <a:pt x="23" y="638"/>
                    </a:moveTo>
                    <a:lnTo>
                      <a:pt x="0" y="541"/>
                    </a:lnTo>
                    <a:lnTo>
                      <a:pt x="173" y="539"/>
                    </a:lnTo>
                    <a:lnTo>
                      <a:pt x="173" y="507"/>
                    </a:lnTo>
                    <a:lnTo>
                      <a:pt x="281" y="507"/>
                    </a:lnTo>
                    <a:lnTo>
                      <a:pt x="281" y="469"/>
                    </a:lnTo>
                    <a:lnTo>
                      <a:pt x="348" y="469"/>
                    </a:lnTo>
                    <a:lnTo>
                      <a:pt x="348" y="437"/>
                    </a:lnTo>
                    <a:lnTo>
                      <a:pt x="386" y="437"/>
                    </a:lnTo>
                    <a:lnTo>
                      <a:pt x="386" y="399"/>
                    </a:lnTo>
                    <a:lnTo>
                      <a:pt x="418" y="399"/>
                    </a:lnTo>
                    <a:lnTo>
                      <a:pt x="418" y="364"/>
                    </a:lnTo>
                    <a:lnTo>
                      <a:pt x="454" y="364"/>
                    </a:lnTo>
                    <a:lnTo>
                      <a:pt x="454" y="328"/>
                    </a:lnTo>
                    <a:lnTo>
                      <a:pt x="487" y="328"/>
                    </a:lnTo>
                    <a:lnTo>
                      <a:pt x="487" y="292"/>
                    </a:lnTo>
                    <a:lnTo>
                      <a:pt x="521" y="292"/>
                    </a:lnTo>
                    <a:lnTo>
                      <a:pt x="521" y="230"/>
                    </a:lnTo>
                    <a:lnTo>
                      <a:pt x="559" y="230"/>
                    </a:lnTo>
                    <a:lnTo>
                      <a:pt x="559" y="87"/>
                    </a:lnTo>
                    <a:lnTo>
                      <a:pt x="591" y="89"/>
                    </a:lnTo>
                    <a:lnTo>
                      <a:pt x="591" y="0"/>
                    </a:lnTo>
                    <a:lnTo>
                      <a:pt x="692" y="2"/>
                    </a:lnTo>
                    <a:lnTo>
                      <a:pt x="692" y="93"/>
                    </a:lnTo>
                    <a:lnTo>
                      <a:pt x="658" y="93"/>
                    </a:lnTo>
                    <a:lnTo>
                      <a:pt x="658" y="228"/>
                    </a:lnTo>
                    <a:lnTo>
                      <a:pt x="627" y="228"/>
                    </a:lnTo>
                    <a:lnTo>
                      <a:pt x="627" y="294"/>
                    </a:lnTo>
                    <a:lnTo>
                      <a:pt x="587" y="296"/>
                    </a:lnTo>
                    <a:lnTo>
                      <a:pt x="587" y="359"/>
                    </a:lnTo>
                    <a:lnTo>
                      <a:pt x="553" y="361"/>
                    </a:lnTo>
                    <a:lnTo>
                      <a:pt x="553" y="395"/>
                    </a:lnTo>
                    <a:lnTo>
                      <a:pt x="519" y="395"/>
                    </a:lnTo>
                    <a:lnTo>
                      <a:pt x="519" y="431"/>
                    </a:lnTo>
                    <a:lnTo>
                      <a:pt x="487" y="431"/>
                    </a:lnTo>
                    <a:lnTo>
                      <a:pt x="487" y="463"/>
                    </a:lnTo>
                    <a:lnTo>
                      <a:pt x="451" y="463"/>
                    </a:lnTo>
                    <a:lnTo>
                      <a:pt x="451" y="499"/>
                    </a:lnTo>
                    <a:lnTo>
                      <a:pt x="418" y="499"/>
                    </a:lnTo>
                    <a:lnTo>
                      <a:pt x="418" y="534"/>
                    </a:lnTo>
                    <a:lnTo>
                      <a:pt x="382" y="534"/>
                    </a:lnTo>
                    <a:lnTo>
                      <a:pt x="382" y="568"/>
                    </a:lnTo>
                    <a:lnTo>
                      <a:pt x="314" y="568"/>
                    </a:lnTo>
                    <a:lnTo>
                      <a:pt x="314" y="602"/>
                    </a:lnTo>
                    <a:lnTo>
                      <a:pt x="177" y="602"/>
                    </a:lnTo>
                    <a:lnTo>
                      <a:pt x="177" y="638"/>
                    </a:lnTo>
                    <a:lnTo>
                      <a:pt x="23" y="638"/>
                    </a:lnTo>
                    <a:lnTo>
                      <a:pt x="23" y="6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3311400">
                <a:off x="4965120" y="4971960"/>
                <a:ext cx="237240" cy="243360"/>
              </a:xfrm>
              <a:custGeom>
                <a:avLst/>
                <a:gdLst/>
                <a:ahLst/>
                <a:rect l="l" t="t" r="r" b="b"/>
                <a:pathLst>
                  <a:path w="635" h="653">
                    <a:moveTo>
                      <a:pt x="534" y="653"/>
                    </a:moveTo>
                    <a:lnTo>
                      <a:pt x="534" y="545"/>
                    </a:lnTo>
                    <a:lnTo>
                      <a:pt x="500" y="545"/>
                    </a:lnTo>
                    <a:lnTo>
                      <a:pt x="498" y="446"/>
                    </a:lnTo>
                    <a:lnTo>
                      <a:pt x="464" y="446"/>
                    </a:lnTo>
                    <a:lnTo>
                      <a:pt x="464" y="378"/>
                    </a:lnTo>
                    <a:lnTo>
                      <a:pt x="432" y="380"/>
                    </a:lnTo>
                    <a:lnTo>
                      <a:pt x="432" y="306"/>
                    </a:lnTo>
                    <a:lnTo>
                      <a:pt x="395" y="306"/>
                    </a:lnTo>
                    <a:lnTo>
                      <a:pt x="397" y="273"/>
                    </a:lnTo>
                    <a:lnTo>
                      <a:pt x="363" y="273"/>
                    </a:lnTo>
                    <a:lnTo>
                      <a:pt x="363" y="235"/>
                    </a:lnTo>
                    <a:lnTo>
                      <a:pt x="325" y="235"/>
                    </a:lnTo>
                    <a:lnTo>
                      <a:pt x="327" y="207"/>
                    </a:lnTo>
                    <a:lnTo>
                      <a:pt x="295" y="207"/>
                    </a:lnTo>
                    <a:lnTo>
                      <a:pt x="295" y="167"/>
                    </a:lnTo>
                    <a:lnTo>
                      <a:pt x="221" y="169"/>
                    </a:lnTo>
                    <a:lnTo>
                      <a:pt x="221" y="136"/>
                    </a:lnTo>
                    <a:lnTo>
                      <a:pt x="122" y="136"/>
                    </a:lnTo>
                    <a:lnTo>
                      <a:pt x="12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18" y="34"/>
                    </a:lnTo>
                    <a:lnTo>
                      <a:pt x="222" y="34"/>
                    </a:lnTo>
                    <a:lnTo>
                      <a:pt x="224" y="64"/>
                    </a:lnTo>
                    <a:lnTo>
                      <a:pt x="293" y="64"/>
                    </a:lnTo>
                    <a:lnTo>
                      <a:pt x="295" y="98"/>
                    </a:lnTo>
                    <a:lnTo>
                      <a:pt x="363" y="100"/>
                    </a:lnTo>
                    <a:lnTo>
                      <a:pt x="363" y="135"/>
                    </a:lnTo>
                    <a:lnTo>
                      <a:pt x="392" y="135"/>
                    </a:lnTo>
                    <a:lnTo>
                      <a:pt x="392" y="171"/>
                    </a:lnTo>
                    <a:lnTo>
                      <a:pt x="428" y="171"/>
                    </a:lnTo>
                    <a:lnTo>
                      <a:pt x="428" y="207"/>
                    </a:lnTo>
                    <a:lnTo>
                      <a:pt x="464" y="207"/>
                    </a:lnTo>
                    <a:lnTo>
                      <a:pt x="464" y="241"/>
                    </a:lnTo>
                    <a:lnTo>
                      <a:pt x="496" y="239"/>
                    </a:lnTo>
                    <a:lnTo>
                      <a:pt x="496" y="271"/>
                    </a:lnTo>
                    <a:lnTo>
                      <a:pt x="529" y="271"/>
                    </a:lnTo>
                    <a:lnTo>
                      <a:pt x="530" y="338"/>
                    </a:lnTo>
                    <a:lnTo>
                      <a:pt x="563" y="338"/>
                    </a:lnTo>
                    <a:lnTo>
                      <a:pt x="563" y="408"/>
                    </a:lnTo>
                    <a:lnTo>
                      <a:pt x="601" y="408"/>
                    </a:lnTo>
                    <a:lnTo>
                      <a:pt x="601" y="547"/>
                    </a:lnTo>
                    <a:lnTo>
                      <a:pt x="635" y="547"/>
                    </a:lnTo>
                    <a:lnTo>
                      <a:pt x="635" y="651"/>
                    </a:lnTo>
                    <a:lnTo>
                      <a:pt x="534" y="653"/>
                    </a:lnTo>
                    <a:lnTo>
                      <a:pt x="534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rot="3311400">
                <a:off x="4911120" y="5311440"/>
                <a:ext cx="232200" cy="227520"/>
              </a:xfrm>
              <a:custGeom>
                <a:avLst/>
                <a:gdLst/>
                <a:ahLst/>
                <a:rect l="l" t="t" r="r" b="b"/>
                <a:pathLst>
                  <a:path w="620" h="612">
                    <a:moveTo>
                      <a:pt x="477" y="612"/>
                    </a:moveTo>
                    <a:lnTo>
                      <a:pt x="477" y="580"/>
                    </a:lnTo>
                    <a:lnTo>
                      <a:pt x="375" y="580"/>
                    </a:lnTo>
                    <a:lnTo>
                      <a:pt x="375" y="547"/>
                    </a:lnTo>
                    <a:lnTo>
                      <a:pt x="308" y="547"/>
                    </a:lnTo>
                    <a:lnTo>
                      <a:pt x="308" y="513"/>
                    </a:lnTo>
                    <a:lnTo>
                      <a:pt x="274" y="513"/>
                    </a:lnTo>
                    <a:lnTo>
                      <a:pt x="274" y="479"/>
                    </a:lnTo>
                    <a:lnTo>
                      <a:pt x="202" y="477"/>
                    </a:lnTo>
                    <a:lnTo>
                      <a:pt x="200" y="443"/>
                    </a:lnTo>
                    <a:lnTo>
                      <a:pt x="167" y="443"/>
                    </a:lnTo>
                    <a:lnTo>
                      <a:pt x="167" y="411"/>
                    </a:lnTo>
                    <a:lnTo>
                      <a:pt x="133" y="411"/>
                    </a:lnTo>
                    <a:lnTo>
                      <a:pt x="133" y="344"/>
                    </a:lnTo>
                    <a:lnTo>
                      <a:pt x="99" y="344"/>
                    </a:lnTo>
                    <a:lnTo>
                      <a:pt x="99" y="310"/>
                    </a:lnTo>
                    <a:lnTo>
                      <a:pt x="65" y="312"/>
                    </a:lnTo>
                    <a:lnTo>
                      <a:pt x="65" y="243"/>
                    </a:lnTo>
                    <a:lnTo>
                      <a:pt x="34" y="242"/>
                    </a:lnTo>
                    <a:lnTo>
                      <a:pt x="32" y="143"/>
                    </a:lnTo>
                    <a:lnTo>
                      <a:pt x="0" y="143"/>
                    </a:lnTo>
                    <a:lnTo>
                      <a:pt x="0" y="0"/>
                    </a:lnTo>
                    <a:lnTo>
                      <a:pt x="101" y="0"/>
                    </a:lnTo>
                    <a:lnTo>
                      <a:pt x="103" y="139"/>
                    </a:lnTo>
                    <a:lnTo>
                      <a:pt x="137" y="139"/>
                    </a:lnTo>
                    <a:lnTo>
                      <a:pt x="137" y="242"/>
                    </a:lnTo>
                    <a:lnTo>
                      <a:pt x="171" y="242"/>
                    </a:lnTo>
                    <a:lnTo>
                      <a:pt x="171" y="276"/>
                    </a:lnTo>
                    <a:lnTo>
                      <a:pt x="203" y="276"/>
                    </a:lnTo>
                    <a:lnTo>
                      <a:pt x="203" y="344"/>
                    </a:lnTo>
                    <a:lnTo>
                      <a:pt x="236" y="344"/>
                    </a:lnTo>
                    <a:lnTo>
                      <a:pt x="236" y="378"/>
                    </a:lnTo>
                    <a:lnTo>
                      <a:pt x="274" y="378"/>
                    </a:lnTo>
                    <a:lnTo>
                      <a:pt x="274" y="413"/>
                    </a:lnTo>
                    <a:lnTo>
                      <a:pt x="336" y="413"/>
                    </a:lnTo>
                    <a:lnTo>
                      <a:pt x="336" y="445"/>
                    </a:lnTo>
                    <a:lnTo>
                      <a:pt x="405" y="445"/>
                    </a:lnTo>
                    <a:lnTo>
                      <a:pt x="405" y="481"/>
                    </a:lnTo>
                    <a:lnTo>
                      <a:pt x="475" y="483"/>
                    </a:lnTo>
                    <a:lnTo>
                      <a:pt x="475" y="515"/>
                    </a:lnTo>
                    <a:lnTo>
                      <a:pt x="616" y="515"/>
                    </a:lnTo>
                    <a:lnTo>
                      <a:pt x="620" y="612"/>
                    </a:lnTo>
                    <a:lnTo>
                      <a:pt x="477" y="612"/>
                    </a:lnTo>
                    <a:lnTo>
                      <a:pt x="477" y="6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3311400">
                <a:off x="4857840" y="5235120"/>
                <a:ext cx="282600" cy="139320"/>
              </a:xfrm>
              <a:custGeom>
                <a:avLst/>
                <a:gdLst/>
                <a:ahLst/>
                <a:rect l="l" t="t" r="r" b="b"/>
                <a:pathLst>
                  <a:path w="754" h="375">
                    <a:moveTo>
                      <a:pt x="235" y="375"/>
                    </a:moveTo>
                    <a:lnTo>
                      <a:pt x="235" y="352"/>
                    </a:lnTo>
                    <a:lnTo>
                      <a:pt x="165" y="352"/>
                    </a:lnTo>
                    <a:lnTo>
                      <a:pt x="165" y="312"/>
                    </a:lnTo>
                    <a:lnTo>
                      <a:pt x="133" y="312"/>
                    </a:lnTo>
                    <a:lnTo>
                      <a:pt x="133" y="280"/>
                    </a:lnTo>
                    <a:lnTo>
                      <a:pt x="96" y="280"/>
                    </a:lnTo>
                    <a:lnTo>
                      <a:pt x="96" y="242"/>
                    </a:lnTo>
                    <a:lnTo>
                      <a:pt x="66" y="242"/>
                    </a:lnTo>
                    <a:lnTo>
                      <a:pt x="66" y="173"/>
                    </a:lnTo>
                    <a:lnTo>
                      <a:pt x="34" y="173"/>
                    </a:lnTo>
                    <a:lnTo>
                      <a:pt x="32" y="38"/>
                    </a:lnTo>
                    <a:lnTo>
                      <a:pt x="0" y="38"/>
                    </a:lnTo>
                    <a:lnTo>
                      <a:pt x="0" y="8"/>
                    </a:lnTo>
                    <a:lnTo>
                      <a:pt x="64" y="8"/>
                    </a:lnTo>
                    <a:lnTo>
                      <a:pt x="64" y="38"/>
                    </a:lnTo>
                    <a:lnTo>
                      <a:pt x="98" y="38"/>
                    </a:lnTo>
                    <a:lnTo>
                      <a:pt x="98" y="111"/>
                    </a:lnTo>
                    <a:lnTo>
                      <a:pt x="136" y="109"/>
                    </a:lnTo>
                    <a:lnTo>
                      <a:pt x="136" y="175"/>
                    </a:lnTo>
                    <a:lnTo>
                      <a:pt x="171" y="175"/>
                    </a:lnTo>
                    <a:lnTo>
                      <a:pt x="171" y="209"/>
                    </a:lnTo>
                    <a:lnTo>
                      <a:pt x="207" y="209"/>
                    </a:lnTo>
                    <a:lnTo>
                      <a:pt x="207" y="244"/>
                    </a:lnTo>
                    <a:lnTo>
                      <a:pt x="309" y="244"/>
                    </a:lnTo>
                    <a:lnTo>
                      <a:pt x="309" y="278"/>
                    </a:lnTo>
                    <a:lnTo>
                      <a:pt x="477" y="276"/>
                    </a:lnTo>
                    <a:lnTo>
                      <a:pt x="477" y="244"/>
                    </a:lnTo>
                    <a:lnTo>
                      <a:pt x="547" y="244"/>
                    </a:lnTo>
                    <a:lnTo>
                      <a:pt x="547" y="209"/>
                    </a:lnTo>
                    <a:lnTo>
                      <a:pt x="614" y="209"/>
                    </a:lnTo>
                    <a:lnTo>
                      <a:pt x="614" y="139"/>
                    </a:lnTo>
                    <a:lnTo>
                      <a:pt x="652" y="139"/>
                    </a:lnTo>
                    <a:lnTo>
                      <a:pt x="650" y="105"/>
                    </a:lnTo>
                    <a:lnTo>
                      <a:pt x="688" y="105"/>
                    </a:lnTo>
                    <a:lnTo>
                      <a:pt x="688" y="0"/>
                    </a:lnTo>
                    <a:lnTo>
                      <a:pt x="752" y="0"/>
                    </a:lnTo>
                    <a:lnTo>
                      <a:pt x="754" y="139"/>
                    </a:lnTo>
                    <a:lnTo>
                      <a:pt x="724" y="139"/>
                    </a:lnTo>
                    <a:lnTo>
                      <a:pt x="724" y="208"/>
                    </a:lnTo>
                    <a:lnTo>
                      <a:pt x="688" y="208"/>
                    </a:lnTo>
                    <a:lnTo>
                      <a:pt x="688" y="272"/>
                    </a:lnTo>
                    <a:lnTo>
                      <a:pt x="650" y="272"/>
                    </a:lnTo>
                    <a:lnTo>
                      <a:pt x="650" y="308"/>
                    </a:lnTo>
                    <a:lnTo>
                      <a:pt x="579" y="308"/>
                    </a:lnTo>
                    <a:lnTo>
                      <a:pt x="579" y="342"/>
                    </a:lnTo>
                    <a:lnTo>
                      <a:pt x="547" y="342"/>
                    </a:lnTo>
                    <a:lnTo>
                      <a:pt x="547" y="375"/>
                    </a:lnTo>
                    <a:lnTo>
                      <a:pt x="235" y="375"/>
                    </a:lnTo>
                    <a:lnTo>
                      <a:pt x="235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3311400">
                <a:off x="5086800" y="5160240"/>
                <a:ext cx="248760" cy="253080"/>
              </a:xfrm>
              <a:custGeom>
                <a:avLst/>
                <a:gdLst/>
                <a:ahLst/>
                <a:rect l="l" t="t" r="r" b="b"/>
                <a:pathLst>
                  <a:path w="663" h="680">
                    <a:moveTo>
                      <a:pt x="0" y="680"/>
                    </a:moveTo>
                    <a:lnTo>
                      <a:pt x="0" y="484"/>
                    </a:lnTo>
                    <a:lnTo>
                      <a:pt x="30" y="484"/>
                    </a:lnTo>
                    <a:lnTo>
                      <a:pt x="30" y="378"/>
                    </a:lnTo>
                    <a:lnTo>
                      <a:pt x="65" y="378"/>
                    </a:lnTo>
                    <a:lnTo>
                      <a:pt x="65" y="307"/>
                    </a:lnTo>
                    <a:lnTo>
                      <a:pt x="105" y="307"/>
                    </a:lnTo>
                    <a:lnTo>
                      <a:pt x="105" y="277"/>
                    </a:lnTo>
                    <a:lnTo>
                      <a:pt x="137" y="277"/>
                    </a:lnTo>
                    <a:lnTo>
                      <a:pt x="137" y="247"/>
                    </a:lnTo>
                    <a:lnTo>
                      <a:pt x="171" y="247"/>
                    </a:lnTo>
                    <a:lnTo>
                      <a:pt x="171" y="210"/>
                    </a:lnTo>
                    <a:lnTo>
                      <a:pt x="203" y="209"/>
                    </a:lnTo>
                    <a:lnTo>
                      <a:pt x="203" y="178"/>
                    </a:lnTo>
                    <a:lnTo>
                      <a:pt x="238" y="176"/>
                    </a:lnTo>
                    <a:lnTo>
                      <a:pt x="240" y="142"/>
                    </a:lnTo>
                    <a:lnTo>
                      <a:pt x="270" y="142"/>
                    </a:lnTo>
                    <a:lnTo>
                      <a:pt x="270" y="104"/>
                    </a:lnTo>
                    <a:lnTo>
                      <a:pt x="340" y="104"/>
                    </a:lnTo>
                    <a:lnTo>
                      <a:pt x="340" y="72"/>
                    </a:lnTo>
                    <a:lnTo>
                      <a:pt x="411" y="72"/>
                    </a:lnTo>
                    <a:lnTo>
                      <a:pt x="411" y="38"/>
                    </a:lnTo>
                    <a:lnTo>
                      <a:pt x="513" y="38"/>
                    </a:lnTo>
                    <a:lnTo>
                      <a:pt x="513" y="0"/>
                    </a:lnTo>
                    <a:lnTo>
                      <a:pt x="663" y="0"/>
                    </a:lnTo>
                    <a:lnTo>
                      <a:pt x="656" y="100"/>
                    </a:lnTo>
                    <a:lnTo>
                      <a:pt x="517" y="100"/>
                    </a:lnTo>
                    <a:lnTo>
                      <a:pt x="517" y="136"/>
                    </a:lnTo>
                    <a:lnTo>
                      <a:pt x="411" y="133"/>
                    </a:lnTo>
                    <a:lnTo>
                      <a:pt x="411" y="169"/>
                    </a:lnTo>
                    <a:lnTo>
                      <a:pt x="340" y="167"/>
                    </a:lnTo>
                    <a:lnTo>
                      <a:pt x="338" y="207"/>
                    </a:lnTo>
                    <a:lnTo>
                      <a:pt x="302" y="207"/>
                    </a:lnTo>
                    <a:lnTo>
                      <a:pt x="302" y="245"/>
                    </a:lnTo>
                    <a:lnTo>
                      <a:pt x="274" y="245"/>
                    </a:lnTo>
                    <a:lnTo>
                      <a:pt x="274" y="275"/>
                    </a:lnTo>
                    <a:lnTo>
                      <a:pt x="241" y="275"/>
                    </a:lnTo>
                    <a:lnTo>
                      <a:pt x="241" y="311"/>
                    </a:lnTo>
                    <a:lnTo>
                      <a:pt x="207" y="309"/>
                    </a:lnTo>
                    <a:lnTo>
                      <a:pt x="207" y="343"/>
                    </a:lnTo>
                    <a:lnTo>
                      <a:pt x="173" y="343"/>
                    </a:lnTo>
                    <a:lnTo>
                      <a:pt x="173" y="414"/>
                    </a:lnTo>
                    <a:lnTo>
                      <a:pt x="137" y="414"/>
                    </a:lnTo>
                    <a:lnTo>
                      <a:pt x="137" y="484"/>
                    </a:lnTo>
                    <a:lnTo>
                      <a:pt x="101" y="484"/>
                    </a:lnTo>
                    <a:lnTo>
                      <a:pt x="101" y="680"/>
                    </a:lnTo>
                    <a:lnTo>
                      <a:pt x="0" y="680"/>
                    </a:lnTo>
                    <a:lnTo>
                      <a:pt x="0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3311400">
                <a:off x="5114880" y="52430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70" y="206"/>
                    </a:moveTo>
                    <a:lnTo>
                      <a:pt x="70" y="168"/>
                    </a:lnTo>
                    <a:lnTo>
                      <a:pt x="34" y="168"/>
                    </a:lnTo>
                    <a:lnTo>
                      <a:pt x="34" y="137"/>
                    </a:lnTo>
                    <a:lnTo>
                      <a:pt x="4" y="137"/>
                    </a:lnTo>
                    <a:lnTo>
                      <a:pt x="0" y="73"/>
                    </a:lnTo>
                    <a:lnTo>
                      <a:pt x="34" y="73"/>
                    </a:lnTo>
                    <a:lnTo>
                      <a:pt x="34" y="4"/>
                    </a:lnTo>
                    <a:lnTo>
                      <a:pt x="205" y="0"/>
                    </a:lnTo>
                    <a:lnTo>
                      <a:pt x="205" y="67"/>
                    </a:lnTo>
                    <a:lnTo>
                      <a:pt x="238" y="67"/>
                    </a:lnTo>
                    <a:lnTo>
                      <a:pt x="238" y="137"/>
                    </a:lnTo>
                    <a:lnTo>
                      <a:pt x="205" y="137"/>
                    </a:lnTo>
                    <a:lnTo>
                      <a:pt x="205" y="171"/>
                    </a:lnTo>
                    <a:lnTo>
                      <a:pt x="171" y="171"/>
                    </a:lnTo>
                    <a:lnTo>
                      <a:pt x="171" y="206"/>
                    </a:lnTo>
                    <a:lnTo>
                      <a:pt x="70" y="206"/>
                    </a:lnTo>
                    <a:lnTo>
                      <a:pt x="70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3311400">
                <a:off x="5035680" y="5118840"/>
                <a:ext cx="76320" cy="7560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33" y="203"/>
                    </a:moveTo>
                    <a:lnTo>
                      <a:pt x="33" y="171"/>
                    </a:lnTo>
                    <a:lnTo>
                      <a:pt x="0" y="171"/>
                    </a:lnTo>
                    <a:lnTo>
                      <a:pt x="0" y="34"/>
                    </a:lnTo>
                    <a:lnTo>
                      <a:pt x="33" y="34"/>
                    </a:lnTo>
                    <a:lnTo>
                      <a:pt x="33" y="0"/>
                    </a:lnTo>
                    <a:lnTo>
                      <a:pt x="166" y="0"/>
                    </a:lnTo>
                    <a:lnTo>
                      <a:pt x="166" y="34"/>
                    </a:lnTo>
                    <a:lnTo>
                      <a:pt x="204" y="34"/>
                    </a:lnTo>
                    <a:lnTo>
                      <a:pt x="204" y="167"/>
                    </a:lnTo>
                    <a:lnTo>
                      <a:pt x="168" y="167"/>
                    </a:lnTo>
                    <a:lnTo>
                      <a:pt x="168" y="203"/>
                    </a:lnTo>
                    <a:lnTo>
                      <a:pt x="33" y="203"/>
                    </a:lnTo>
                    <a:lnTo>
                      <a:pt x="33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3311400">
                <a:off x="5079240" y="50792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3311400">
                <a:off x="5058000" y="507636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0"/>
                    </a:moveTo>
                    <a:lnTo>
                      <a:pt x="51" y="0"/>
                    </a:lnTo>
                    <a:lnTo>
                      <a:pt x="51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3311400">
                <a:off x="5038920" y="5076000"/>
                <a:ext cx="18360" cy="21960"/>
              </a:xfrm>
              <a:custGeom>
                <a:avLst/>
                <a:gdLst/>
                <a:ahLst/>
                <a:rect l="l" t="t" r="r" b="b"/>
                <a:pathLst>
                  <a:path w="50" h="61">
                    <a:moveTo>
                      <a:pt x="0" y="0"/>
                    </a:moveTo>
                    <a:lnTo>
                      <a:pt x="50" y="0"/>
                    </a:lnTo>
                    <a:lnTo>
                      <a:pt x="50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3311400">
                <a:off x="4959360" y="5093640"/>
                <a:ext cx="19440" cy="16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0" y="0"/>
                    </a:moveTo>
                    <a:lnTo>
                      <a:pt x="51" y="0"/>
                    </a:lnTo>
                    <a:lnTo>
                      <a:pt x="51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3311400">
                <a:off x="4957200" y="51184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3311400">
                <a:off x="4934520" y="511272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3311400">
                <a:off x="4930920" y="513684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0"/>
                    </a:moveTo>
                    <a:lnTo>
                      <a:pt x="50" y="0"/>
                    </a:lnTo>
                    <a:lnTo>
                      <a:pt x="50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3311400">
                <a:off x="4910760" y="5138280"/>
                <a:ext cx="18360" cy="1620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0"/>
                    </a:moveTo>
                    <a:lnTo>
                      <a:pt x="49" y="0"/>
                    </a:lnTo>
                    <a:lnTo>
                      <a:pt x="4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3311400">
                <a:off x="4903200" y="51562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50" y="0"/>
                    </a:lnTo>
                    <a:lnTo>
                      <a:pt x="50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3311400">
                <a:off x="4879440" y="51868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rot="3311400">
                <a:off x="4874040" y="520704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49" y="0"/>
                    </a:lnTo>
                    <a:lnTo>
                      <a:pt x="49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rot="3311400">
                <a:off x="4870440" y="522360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rot="3311400">
                <a:off x="4865760" y="5243400"/>
                <a:ext cx="18000" cy="1692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50" y="0"/>
                    </a:lnTo>
                    <a:lnTo>
                      <a:pt x="50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rot="3311400">
                <a:off x="4861800" y="526536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67" h="47">
                    <a:moveTo>
                      <a:pt x="0" y="0"/>
                    </a:moveTo>
                    <a:lnTo>
                      <a:pt x="67" y="0"/>
                    </a:lnTo>
                    <a:lnTo>
                      <a:pt x="67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rot="3311400">
                <a:off x="4863600" y="5299200"/>
                <a:ext cx="43200" cy="17280"/>
              </a:xfrm>
              <a:custGeom>
                <a:avLst/>
                <a:gdLst/>
                <a:ahLst/>
                <a:rect l="l" t="t" r="r" b="b"/>
                <a:pathLst>
                  <a:path w="116" h="48">
                    <a:moveTo>
                      <a:pt x="0" y="0"/>
                    </a:moveTo>
                    <a:lnTo>
                      <a:pt x="116" y="0"/>
                    </a:lnTo>
                    <a:lnTo>
                      <a:pt x="11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rot="3311400">
                <a:off x="5019480" y="5079960"/>
                <a:ext cx="18000" cy="21600"/>
              </a:xfrm>
              <a:custGeom>
                <a:avLst/>
                <a:gdLst/>
                <a:ahLst/>
                <a:rect l="l" t="t" r="r" b="b"/>
                <a:pathLst>
                  <a:path w="50" h="57">
                    <a:moveTo>
                      <a:pt x="0" y="0"/>
                    </a:moveTo>
                    <a:lnTo>
                      <a:pt x="50" y="0"/>
                    </a:lnTo>
                    <a:lnTo>
                      <a:pt x="50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rot="3311400">
                <a:off x="4989240" y="508068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49" h="102">
                    <a:moveTo>
                      <a:pt x="0" y="0"/>
                    </a:moveTo>
                    <a:lnTo>
                      <a:pt x="49" y="0"/>
                    </a:lnTo>
                    <a:lnTo>
                      <a:pt x="49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rot="3311400">
                <a:off x="5100480" y="50839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rot="3311400">
                <a:off x="5123880" y="509040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0" y="0"/>
                    </a:moveTo>
                    <a:lnTo>
                      <a:pt x="52" y="0"/>
                    </a:lnTo>
                    <a:lnTo>
                      <a:pt x="5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rot="3311400">
                <a:off x="5145480" y="50986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0"/>
                    </a:moveTo>
                    <a:lnTo>
                      <a:pt x="49" y="0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4164120" y="4321440"/>
              <a:ext cx="564480" cy="1127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38720" y="5357880"/>
          <a:ext cx="2621160" cy="28065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219640" y="4508640"/>
          <a:ext cx="1544400" cy="1488960"/>
        </p:xfrm>
        <a:graphic>
          <a:graphicData uri="http://schemas.openxmlformats.org/drawingml/2006/table">
            <a:tbl>
              <a:tblPr/>
              <a:tblGrid>
                <a:gridCol w="220680"/>
                <a:gridCol w="220680"/>
                <a:gridCol w="220680"/>
                <a:gridCol w="220680"/>
                <a:gridCol w="220680"/>
                <a:gridCol w="220320"/>
                <a:gridCol w="2206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0" y="-1764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  <a:ea typeface="Arial"/>
              </a:rPr>
              <a:t>Deck Problem: Multiple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81920" y="2201760"/>
            <a:ext cx="48888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4038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raphic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656320" y="2085840"/>
          <a:ext cx="1940040" cy="2487240"/>
        </p:xfrm>
        <a:graphic>
          <a:graphicData uri="http://schemas.openxmlformats.org/drawingml/2006/table">
            <a:tbl>
              <a:tblPr/>
              <a:tblGrid>
                <a:gridCol w="852480"/>
                <a:gridCol w="108756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</a:t>
                      </a:r>
                      <a:br>
                        <a:rPr sz="1600"/>
                      </a:b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 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5076720" y="1125360"/>
            <a:ext cx="280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umerical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0000" y="4365720"/>
            <a:ext cx="2951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Algebraic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Representation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48280" y="4191120"/>
            <a:ext cx="283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Concre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2xy – x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=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18040" y="6058080"/>
            <a:ext cx="938160" cy="785520"/>
            <a:chOff x="3218040" y="6058080"/>
            <a:chExt cx="938160" cy="785520"/>
          </a:xfrm>
        </p:grpSpPr>
        <p:sp>
          <p:nvSpPr>
            <p:cNvPr id="385" name=""/>
            <p:cNvSpPr/>
            <p:nvPr/>
          </p:nvSpPr>
          <p:spPr>
            <a:xfrm>
              <a:off x="3218040" y="6058080"/>
              <a:ext cx="938160" cy="78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3349080" y="6224040"/>
                  <a:ext cx="66384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7" name=""/>
          <p:cNvGrpSpPr/>
          <p:nvPr/>
        </p:nvGrpSpPr>
        <p:grpSpPr>
          <a:xfrm>
            <a:off x="985680" y="1773360"/>
            <a:ext cx="2881440" cy="2520720"/>
            <a:chOff x="985680" y="1773360"/>
            <a:chExt cx="2881440" cy="2520720"/>
          </a:xfrm>
        </p:grpSpPr>
        <p:pic>
          <p:nvPicPr>
            <p:cNvPr id="388" name="" descr=""/>
            <p:cNvPicPr/>
            <p:nvPr/>
          </p:nvPicPr>
          <p:blipFill>
            <a:blip r:embed="rId2"/>
            <a:srcRect l="12356" t="5710" r="30813" b="5710"/>
            <a:stretch/>
          </p:blipFill>
          <p:spPr>
            <a:xfrm>
              <a:off x="1058760" y="1826640"/>
              <a:ext cx="2771640" cy="24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985680" y="1773360"/>
              <a:ext cx="2881440" cy="25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090520" y="2781000"/>
            <a:ext cx="465480" cy="647640"/>
            <a:chOff x="2090520" y="2781000"/>
            <a:chExt cx="465480" cy="647640"/>
          </a:xfrm>
        </p:grpSpPr>
        <p:sp>
          <p:nvSpPr>
            <p:cNvPr id="391" name=""/>
            <p:cNvSpPr/>
            <p:nvPr/>
          </p:nvSpPr>
          <p:spPr>
            <a:xfrm flipV="1">
              <a:off x="2556000" y="2781000"/>
              <a:ext cx="0" cy="647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090520" y="2789280"/>
              <a:ext cx="463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3" name=""/>
          <p:cNvGraphicFramePr/>
          <p:nvPr/>
        </p:nvGraphicFramePr>
        <p:xfrm>
          <a:off x="5794200" y="4941720"/>
          <a:ext cx="1511640" cy="1702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394" name=""/>
          <p:cNvGrpSpPr/>
          <p:nvPr/>
        </p:nvGrpSpPr>
        <p:grpSpPr>
          <a:xfrm>
            <a:off x="6559560" y="5791320"/>
            <a:ext cx="2584080" cy="1052280"/>
            <a:chOff x="6559560" y="5791320"/>
            <a:chExt cx="2584080" cy="1052280"/>
          </a:xfrm>
        </p:grpSpPr>
        <p:sp>
          <p:nvSpPr>
            <p:cNvPr id="395" name=""/>
            <p:cNvSpPr/>
            <p:nvPr/>
          </p:nvSpPr>
          <p:spPr>
            <a:xfrm>
              <a:off x="6559560" y="5791320"/>
              <a:ext cx="2584080" cy="10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68440" y="6093000"/>
              <a:ext cx="191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124000" y="2378160"/>
            <a:ext cx="216000" cy="1050480"/>
            <a:chOff x="2124000" y="2378160"/>
            <a:chExt cx="216000" cy="1050480"/>
          </a:xfrm>
        </p:grpSpPr>
        <p:sp>
          <p:nvSpPr>
            <p:cNvPr id="398" name=""/>
            <p:cNvSpPr/>
            <p:nvPr/>
          </p:nvSpPr>
          <p:spPr>
            <a:xfrm flipV="1">
              <a:off x="2340000" y="2378160"/>
              <a:ext cx="0" cy="10504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124000" y="2378160"/>
              <a:ext cx="21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123640" y="2866680"/>
            <a:ext cx="648000" cy="576360"/>
            <a:chOff x="2123640" y="2866680"/>
            <a:chExt cx="648000" cy="576360"/>
          </a:xfrm>
        </p:grpSpPr>
        <p:sp>
          <p:nvSpPr>
            <p:cNvPr id="401" name=""/>
            <p:cNvSpPr/>
            <p:nvPr/>
          </p:nvSpPr>
          <p:spPr>
            <a:xfrm flipV="1">
              <a:off x="2771640" y="2866680"/>
              <a:ext cx="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123640" y="2867040"/>
              <a:ext cx="64764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Deck Problem -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14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4132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116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100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4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052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020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8004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98840" y="44388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97240" y="44388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44388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14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132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116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0100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084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06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052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036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020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004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98840" y="42260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97240" y="42260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95640" y="42260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14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132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116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100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4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06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052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36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020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004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8840" y="40132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97240" y="40132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95640" y="40132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14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132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116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100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84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6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052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36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020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004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8840" y="38005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97240" y="38005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95640" y="38005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14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132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116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100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4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606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052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036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20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04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98840" y="35877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97240" y="35877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35877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14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132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116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100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084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06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052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036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020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8004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8840" y="3333600"/>
            <a:ext cx="20160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97240" y="3333600"/>
            <a:ext cx="201600" cy="25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5640" y="3333600"/>
            <a:ext cx="201600" cy="25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14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4132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116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100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84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06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052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036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020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004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98840" y="3121200"/>
            <a:ext cx="201600" cy="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97240" y="31212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3121200"/>
            <a:ext cx="201600" cy="21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614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4132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116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0100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4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06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052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036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020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004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98840" y="290844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397240" y="29084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95640" y="29084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14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132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116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100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4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06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052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036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020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004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98840" y="269568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97240" y="26956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95640" y="269568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14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132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100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4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06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052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36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020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8004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8840" y="248292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97240" y="24829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95640" y="248292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14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132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16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100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8084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606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052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036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020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004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98840" y="2270160"/>
            <a:ext cx="2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397240" y="22701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195640" y="227016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14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132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116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100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084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06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052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036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020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004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98840" y="205740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97240" y="205740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95640" y="205740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14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132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116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100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84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606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52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020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004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98840" y="1844640"/>
            <a:ext cx="20160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397240" y="184464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95640" y="1844640"/>
            <a:ext cx="20160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95640" y="1844640"/>
            <a:ext cx="2620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95640" y="2057400"/>
            <a:ext cx="26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195640" y="227016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95640" y="248292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95640" y="26956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95640" y="29084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95640" y="31212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95640" y="33336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95640" y="358776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95640" y="380052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95640" y="401328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95640" y="422604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95640" y="4438800"/>
            <a:ext cx="40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95640" y="4651200"/>
            <a:ext cx="403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195640" y="1844640"/>
            <a:ext cx="0" cy="28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97240" y="184464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98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004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020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036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052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06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084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100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4132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14840" y="18446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16440" y="1844640"/>
            <a:ext cx="0" cy="4255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816440" y="4438800"/>
            <a:ext cx="0" cy="21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16440" y="42260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14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4132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98840" y="2270160"/>
            <a:ext cx="221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8840" y="2270160"/>
            <a:ext cx="0" cy="2381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16440" y="248292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16440" y="227016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816440" y="26956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16440" y="290844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16440" y="3121200"/>
            <a:ext cx="0" cy="21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16440" y="3333600"/>
            <a:ext cx="0" cy="254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16440" y="358776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816440" y="380052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16440" y="4013280"/>
            <a:ext cx="0" cy="21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004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98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020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036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052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6068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084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100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11640" y="4651200"/>
            <a:ext cx="201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627280" y="2276640"/>
            <a:ext cx="2584080" cy="2736000"/>
            <a:chOff x="2627280" y="2276640"/>
            <a:chExt cx="2584080" cy="2736000"/>
          </a:xfrm>
        </p:grpSpPr>
        <p:sp>
          <p:nvSpPr>
            <p:cNvPr id="626" name=""/>
            <p:cNvSpPr/>
            <p:nvPr/>
          </p:nvSpPr>
          <p:spPr>
            <a:xfrm>
              <a:off x="2627280" y="2276640"/>
              <a:ext cx="2584080" cy="273600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36160" y="3060720"/>
              <a:ext cx="191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Cot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24000" y="1413000"/>
            <a:ext cx="1800000" cy="647640"/>
            <a:chOff x="324000" y="1413000"/>
            <a:chExt cx="1800000" cy="647640"/>
          </a:xfrm>
        </p:grpSpPr>
        <p:sp>
          <p:nvSpPr>
            <p:cNvPr id="629" name=""/>
            <p:cNvSpPr/>
            <p:nvPr/>
          </p:nvSpPr>
          <p:spPr>
            <a:xfrm>
              <a:off x="324000" y="1413000"/>
              <a:ext cx="163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Perfect Squ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47640" y="1916280"/>
              <a:ext cx="576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284360" y="1341360"/>
            <a:ext cx="3169080" cy="642600"/>
            <a:chOff x="4284360" y="1341360"/>
            <a:chExt cx="3169080" cy="642600"/>
          </a:xfrm>
        </p:grpSpPr>
        <p:sp>
          <p:nvSpPr>
            <p:cNvPr id="632" name=""/>
            <p:cNvSpPr/>
            <p:nvPr/>
          </p:nvSpPr>
          <p:spPr>
            <a:xfrm>
              <a:off x="5076720" y="1341360"/>
              <a:ext cx="23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Times New Roman"/>
                </a:rPr>
                <a:t>Even Number of Tiles Remai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284360" y="155736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940360" y="2997360"/>
            <a:ext cx="2808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1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 =  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2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3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4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5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48 – 6</a:t>
            </a:r>
            <a:r>
              <a:rPr b="1" lang="en-C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9640" y="5950080"/>
            <a:ext cx="115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2590920" y="2300400"/>
            <a:ext cx="950760" cy="3047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1890720" cy="1101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5257800" y="1219320"/>
            <a:ext cx="2286000" cy="1371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41680" y="2314440"/>
            <a:ext cx="3606840" cy="30402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43480" y="4738680"/>
            <a:ext cx="25905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320040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12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98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24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38480" y="48769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6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0520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2590920" y="2286000"/>
            <a:ext cx="950760" cy="3048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41680" y="2314440"/>
            <a:ext cx="3606840" cy="3040200"/>
          </a:xfrm>
          <a:prstGeom prst="rtTriangl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548160" y="2300400"/>
            <a:ext cx="947520" cy="304776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90920" y="3200400"/>
            <a:ext cx="14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12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4419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6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04960" y="2300400"/>
            <a:ext cx="951120" cy="3047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1890720" cy="11016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0384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24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666880" y="37339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365760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 180 m</a:t>
            </a:r>
            <a:r>
              <a:rPr b="1" lang="en-CA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9548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 = 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367080" y="5029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 = 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10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442800" y="932040"/>
            <a:ext cx="8253360" cy="564480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1676520" y="914400"/>
            <a:ext cx="6019560" cy="5943600"/>
            <a:chOff x="1676520" y="914400"/>
            <a:chExt cx="6019560" cy="5943600"/>
          </a:xfrm>
        </p:grpSpPr>
        <p:sp>
          <p:nvSpPr>
            <p:cNvPr id="665" name=""/>
            <p:cNvSpPr/>
            <p:nvPr/>
          </p:nvSpPr>
          <p:spPr>
            <a:xfrm>
              <a:off x="1676520" y="914400"/>
              <a:ext cx="6019560" cy="59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6" name=""/>
            <p:cNvGraphicFramePr/>
            <p:nvPr/>
          </p:nvGraphicFramePr>
          <p:xfrm>
            <a:off x="1808280" y="990720"/>
            <a:ext cx="5811840" cy="58672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08280" y="990720"/>
                      <a:ext cx="5811840" cy="586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8" name=""/>
          <p:cNvSpPr/>
          <p:nvPr/>
        </p:nvSpPr>
        <p:spPr>
          <a:xfrm>
            <a:off x="5410080" y="914400"/>
            <a:ext cx="243864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14800" y="957240"/>
            <a:ext cx="364356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rcRect l="0" t="0" r="52346" b="47920"/>
          <a:stretch/>
        </p:blipFill>
        <p:spPr>
          <a:xfrm>
            <a:off x="1371600" y="1073160"/>
            <a:ext cx="6019920" cy="49338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rcRect l="13190" t="16366" r="54133" b="55924"/>
          <a:stretch/>
        </p:blipFill>
        <p:spPr>
          <a:xfrm>
            <a:off x="3048120" y="2633760"/>
            <a:ext cx="4125960" cy="262404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rcRect l="12614" t="16651" r="56252" b="56012"/>
          <a:stretch/>
        </p:blipFill>
        <p:spPr>
          <a:xfrm>
            <a:off x="2971800" y="2666880"/>
            <a:ext cx="3911760" cy="259416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rcRect l="5467" t="6251" r="46875" b="66668"/>
          <a:stretch/>
        </p:blipFill>
        <p:spPr>
          <a:xfrm>
            <a:off x="4267080" y="1600200"/>
            <a:ext cx="3124440" cy="13320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rcRect l="7324" t="34439" r="48636" b="19004"/>
          <a:stretch/>
        </p:blipFill>
        <p:spPr>
          <a:xfrm>
            <a:off x="1795320" y="1571760"/>
            <a:ext cx="5605560" cy="44431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6"/>
          <a:srcRect l="6279" t="10814" r="43431" b="35266"/>
          <a:stretch/>
        </p:blipFill>
        <p:spPr>
          <a:xfrm>
            <a:off x="2028960" y="1566720"/>
            <a:ext cx="5302080" cy="42642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7"/>
          <a:srcRect l="10993" t="14722" r="40932" b="38008"/>
          <a:stretch/>
        </p:blipFill>
        <p:spPr>
          <a:xfrm>
            <a:off x="2514600" y="1905120"/>
            <a:ext cx="4876920" cy="371448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3809880" y="5257800"/>
            <a:ext cx="1143000" cy="749160"/>
            <a:chOff x="3809880" y="5257800"/>
            <a:chExt cx="1143000" cy="749160"/>
          </a:xfrm>
        </p:grpSpPr>
        <p:sp>
          <p:nvSpPr>
            <p:cNvPr id="678" name=""/>
            <p:cNvSpPr/>
            <p:nvPr/>
          </p:nvSpPr>
          <p:spPr>
            <a:xfrm flipV="1">
              <a:off x="4209840" y="5257800"/>
              <a:ext cx="457200" cy="45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09880" y="56386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2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4681440" y="51721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276360" y="5300280"/>
            <a:ext cx="482436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: Problem Solving with the Math Processes i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879560" y="1098720"/>
            <a:ext cx="5359320" cy="38178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709640" y="4381560"/>
            <a:ext cx="556272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05120" y="5029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x + y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209680" y="3176640"/>
                <a:ext cx="1143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419720" y="3809880"/>
                <a:ext cx="761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4267080" y="5029200"/>
            <a:ext cx="266724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C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 = x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4876920" y="1109520"/>
            <a:ext cx="2346120" cy="10335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724280" y="1109520"/>
            <a:ext cx="2576520" cy="1100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rcRect l="11721" t="5099" r="12500" b="4558"/>
          <a:stretch/>
        </p:blipFill>
        <p:spPr>
          <a:xfrm>
            <a:off x="914400" y="961920"/>
            <a:ext cx="6400800" cy="57229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42670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3300"/>
                </a:solidFill>
                <a:latin typeface="Arial"/>
              </a:rPr>
              <a:t>y = 30 -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cc66"/>
                </a:solidFill>
                <a:latin typeface="Arial"/>
              </a:rPr>
              <a:t>y = x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190520" y="880920"/>
            <a:ext cx="5791320" cy="57913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14400" y="1219320"/>
            <a:ext cx="4419720" cy="4690800"/>
          </a:xfrm>
          <a:prstGeom prst="line">
            <a:avLst/>
          </a:prstGeom>
          <a:ln w="28440">
            <a:solidFill>
              <a:srgbClr val="00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462480" y="2938320"/>
            <a:ext cx="1694880" cy="459720"/>
            <a:chOff x="3462480" y="2938320"/>
            <a:chExt cx="1694880" cy="459720"/>
          </a:xfrm>
        </p:grpSpPr>
        <p:sp>
          <p:nvSpPr>
            <p:cNvPr id="695" name=""/>
            <p:cNvSpPr/>
            <p:nvPr/>
          </p:nvSpPr>
          <p:spPr>
            <a:xfrm>
              <a:off x="3557520" y="29383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( 12, 1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62480" y="3152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5638680" y="1627200"/>
            <a:ext cx="3276720" cy="23353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762520" y="3448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12    and   y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1320" y="3352680"/>
            <a:ext cx="274320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1968480" y="984240"/>
            <a:ext cx="4965840" cy="55688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934320" y="990720"/>
            <a:ext cx="1828800" cy="102708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rcRect l="2083" t="1118" r="0" b="0"/>
          <a:stretch/>
        </p:blipFill>
        <p:spPr>
          <a:xfrm>
            <a:off x="2932200" y="2085840"/>
            <a:ext cx="3058920" cy="252900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657840" y="1038240"/>
            <a:ext cx="2257560" cy="1019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274320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86280" y="2286000"/>
            <a:ext cx="1676160" cy="3048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86396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2260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11480" y="2260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895480" y="2286000"/>
            <a:ext cx="2743200" cy="3048120"/>
          </a:xfrm>
          <a:custGeom>
            <a:avLst/>
            <a:gdLst/>
            <a:ahLst/>
            <a:rect l="l" t="t" r="r" b="b"/>
            <a:pathLst>
              <a:path w="1392" h="1920">
                <a:moveTo>
                  <a:pt x="0" y="1920"/>
                </a:moveTo>
                <a:lnTo>
                  <a:pt x="144" y="0"/>
                </a:lnTo>
                <a:lnTo>
                  <a:pt x="1392" y="1920"/>
                </a:lnTo>
                <a:lnTo>
                  <a:pt x="0" y="192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429000" y="4940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590920" y="2286000"/>
            <a:ext cx="966600" cy="30574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85880" y="2286000"/>
            <a:ext cx="971640" cy="158580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81280" y="3733560"/>
            <a:ext cx="167652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71920" y="2314440"/>
            <a:ext cx="1671480" cy="3005280"/>
          </a:xfrm>
          <a:custGeom>
            <a:avLst/>
            <a:gdLst/>
            <a:ahLst/>
            <a:rect l="l" t="t" r="r" b="b"/>
            <a:pathLst>
              <a:path w="1056" h="1920">
                <a:moveTo>
                  <a:pt x="0" y="1920"/>
                </a:moveTo>
                <a:lnTo>
                  <a:pt x="0" y="0"/>
                </a:lnTo>
                <a:lnTo>
                  <a:pt x="1056" y="912"/>
                </a:lnTo>
                <a:lnTo>
                  <a:pt x="0" y="192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81280" y="3767040"/>
            <a:ext cx="3505320" cy="1567080"/>
          </a:xfrm>
          <a:custGeom>
            <a:avLst/>
            <a:gdLst/>
            <a:ahLst/>
            <a:rect l="l" t="t" r="r" b="b"/>
            <a:pathLst>
              <a:path w="2208" h="1008">
                <a:moveTo>
                  <a:pt x="0" y="1008"/>
                </a:moveTo>
                <a:lnTo>
                  <a:pt x="1056" y="0"/>
                </a:lnTo>
                <a:lnTo>
                  <a:pt x="2208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1371600" y="969840"/>
          <a:ext cx="647712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69840"/>
                    <a:ext cx="647712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638440" y="2286000"/>
            <a:ext cx="2666880" cy="1523880"/>
          </a:xfrm>
          <a:custGeom>
            <a:avLst/>
            <a:gdLst/>
            <a:ahLst/>
            <a:rect l="l" t="t" r="r" b="b"/>
            <a:pathLst>
              <a:path w="1680" h="960">
                <a:moveTo>
                  <a:pt x="0" y="0"/>
                </a:moveTo>
                <a:lnTo>
                  <a:pt x="576" y="0"/>
                </a:lnTo>
                <a:lnTo>
                  <a:pt x="1680" y="960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24040" y="3838680"/>
            <a:ext cx="2691000" cy="1504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67240" y="2286000"/>
            <a:ext cx="1752480" cy="148608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0" y="0"/>
                </a:moveTo>
                <a:lnTo>
                  <a:pt x="1104" y="0"/>
                </a:lnTo>
                <a:lnTo>
                  <a:pt x="1104" y="912"/>
                </a:lnTo>
                <a:lnTo>
                  <a:pt x="0" y="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39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d469b"/>
                </a:solidFill>
                <a:latin typeface="Arial"/>
              </a:rPr>
              <a:t>Problem Solving Across the Grad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666880" y="3809880"/>
            <a:ext cx="266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15040" y="228600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580920" y="228600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34120" y="3809880"/>
            <a:ext cx="1795320" cy="1524240"/>
          </a:xfrm>
          <a:custGeom>
            <a:avLst/>
            <a:gdLst/>
            <a:ahLst/>
            <a:rect l="l" t="t" r="r" b="b"/>
            <a:pathLst>
              <a:path w="1104" h="960">
                <a:moveTo>
                  <a:pt x="0" y="0"/>
                </a:moveTo>
                <a:lnTo>
                  <a:pt x="0" y="960"/>
                </a:lnTo>
                <a:lnTo>
                  <a:pt x="1104" y="960"/>
                </a:lnTo>
                <a:lnTo>
                  <a:pt x="0" y="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nd Someone Who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someone in the group who satisfies each criteria on th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quare must have a differen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BINGO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BINGO – full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46720" y="1928880"/>
            <a:ext cx="3083040" cy="3984480"/>
            <a:chOff x="5346720" y="1928880"/>
            <a:chExt cx="3083040" cy="3984480"/>
          </a:xfrm>
        </p:grpSpPr>
        <p:graphicFrame>
          <p:nvGraphicFramePr>
            <p:cNvPr id="184" name=""/>
            <p:cNvGraphicFramePr/>
            <p:nvPr/>
          </p:nvGraphicFramePr>
          <p:xfrm>
            <a:off x="5355360" y="1951200"/>
            <a:ext cx="3007440" cy="3891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5360" y="1951200"/>
                      <a:ext cx="3007440" cy="38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5346720" y="1928880"/>
              <a:ext cx="3083040" cy="39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2648160" cy="33847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667200">
            <a:off x="5400720" y="2457000"/>
            <a:ext cx="2666880" cy="3353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90" name=""/>
          <p:cNvGrpSpPr/>
          <p:nvPr/>
        </p:nvGrpSpPr>
        <p:grpSpPr>
          <a:xfrm>
            <a:off x="515520" y="2165760"/>
            <a:ext cx="3146400" cy="3719880"/>
            <a:chOff x="515520" y="2165760"/>
            <a:chExt cx="3146400" cy="371988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 rot="21073800">
              <a:off x="755280" y="2349000"/>
              <a:ext cx="2666520" cy="33526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2" name=""/>
            <p:cNvSpPr/>
            <p:nvPr/>
          </p:nvSpPr>
          <p:spPr>
            <a:xfrm rot="21073800">
              <a:off x="2498040" y="5276880"/>
              <a:ext cx="882720" cy="234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556000" y="1700280"/>
            <a:ext cx="373536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162920" cy="397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768840" cy="487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3429000" y="2286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2286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572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45720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 rot="615000">
            <a:off x="4248000" y="2023560"/>
            <a:ext cx="2895840" cy="360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ploring the Math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ly, explore the Math Processes package with particular attention to a “different” process than you studied e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e Big Idea is Problem Solv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1337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2282760"/>
            <a:ext cx="7848720" cy="2774520"/>
          </a:xfrm>
          <a:prstGeom prst="rect">
            <a:avLst/>
          </a:prstGeom>
          <a:noFill/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olving forms the basis of effective mathematics progr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should be the mainstay of mathematical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ntario Curriculum Grades 1 – 8 Mathematics revised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Problem Solving with </a:t>
            </a:r>
            <a:br>
              <a:rPr sz="4000"/>
            </a:br>
            <a:r>
              <a:rPr b="0" i="1" lang="en-CA" sz="4000" spc="-1" strike="noStrike">
                <a:solidFill>
                  <a:srgbClr val="0d469b"/>
                </a:solidFill>
                <a:latin typeface="Arial"/>
              </a:rPr>
              <a:t>the Math Processes in Min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31264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(s) select one of the following problems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using the MP package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note when a MP is recognized as being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0T13:37:34Z</dcterms:modified>
  <cp:revision>130</cp:revision>
  <dc:subject/>
  <dc:title>Slide 1</dc:title>
</cp:coreProperties>
</file>